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61F9-3210-4792-81AA-9E596B6F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4C94-AE47-4578-97B9-C8C8E2FC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21BD-F178-49BC-9943-C3B9BAC3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FBBB-8C15-4B07-B59C-FB9E9429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3295-6521-4D65-B436-F8AD7702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887B-6D7E-42C4-A866-4CBC8E40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45B-5951-4312-ADB3-D82AFFB9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A19-8D6C-41CF-9D20-1A9F7978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9E0A-EE35-4A6F-ACE8-A51AB806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CD4A-1040-48C2-BB4D-DAB67345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EC4-53D5-455C-AD4A-FFD8A080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D32A-8841-4125-B96C-FFD5BF57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5075-8653-4E53-8E4C-F3D971B91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iosity is pawsing only to wonder about the unkn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j0431025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8006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9T21:31:26Z</dcterms:created>
  <dc:creator>Beth</dc:creator>
  <dc:description/>
  <dc:language>en-US</dc:language>
  <cp:lastModifiedBy>Beth</cp:lastModifiedBy>
  <dcterms:modified xsi:type="dcterms:W3CDTF">2010-05-09T21:31:58Z</dcterms:modified>
  <cp:revision>1</cp:revision>
  <dc:subject/>
  <dc:title>Curiosity is pawsing only to wonder about the unknown</dc:title>
</cp:coreProperties>
</file>